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F93E-415D-4542-8904-11B954C0F7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w is named for Charles Boyle, who studied the relationship betwe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, in the mid-160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nstant temperature and amount of gas, you can use these relationships to predict changes in pressur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D4B9-613E-49ED-8420-3E84A55A0B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ce units are different sizes, use ratios to conve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the pressure reduces the volume by half.  Conversely, when the volume doubles, the pressure decreases by 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0F4-A8B1-46D8-8DBD-1EE81066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3EE-E5F2-4075-97E6-60A9D4B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961-EBCC-440F-B490-64C0E20E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9C4-9C65-4A9A-A551-0A6B9BA0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C24-A07A-411A-A869-055B7DAF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87C-222A-4648-96DC-88989C0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91E-55FA-43DE-B308-C10CFF0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D20-5CBD-4201-A1C1-44F37DE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B36-5B58-4137-AE24-C952F52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B1C-BCC9-4C80-8BD8-5845C04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22C-241F-4F97-BBD5-A25C505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4B9-3562-4331-9384-FAADA19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CAE-9303-4BE5-BA74-50E8A1CF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Reca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hoe exerts mo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 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543640" cy="326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0520" y="623736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g. 424 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le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nstruct a graph of P versus 1/ V  , we get a   straight line, with a slope of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lope of the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, and since the initial and final conditions are both equal to k, we can writ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8920" y="1773360"/>
            <a:ext cx="374508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le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 determined that for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gas at const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* V =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efines an inverse relationship: when one goes up, the other  com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OYLES LAW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’s Law can be used to predict the interaction of pressure and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3 out of 4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₁ and V₁ are the pressure and the volume of the gas for the initial set of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₂ and V₂ are the pressure and volume of the gas for the final set of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 your strategy…Act on Your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52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16280"/>
            <a:ext cx="1600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1989000"/>
            <a:ext cx="1528560" cy="10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1916280"/>
            <a:ext cx="1600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P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V</a:t>
            </a:r>
            <a:r>
              <a:rPr b="0" lang="en-CA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바탕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4149720"/>
            <a:ext cx="2089080" cy="6476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= P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V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ather balloon with a volume of 2.00 x 10³ L at a pressure of 96.3 kPa rises to an altitude of 1.00 × 10³ m, where the atmospheric pressure is measured at 60.8 kPa. Assuming there is no change in the temperature or amount of gas, what is the final volume of the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6237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ing Boyle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By step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volume, V₂, of the balloon after th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initial pressure on the balloon, P₁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initial volume of the balloon,    V₁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final pressure on the balloon,   P₂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re is no change in temperature or amount of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nd volume are changing at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and amount of gas. Therefore,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for Boyle’s law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the variable for final volume, V₂.  Divide each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Boyle’s law equation by P₂and isolate V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stitute the number and units for the known variables in the formula and solve. (Watch units!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nal volume of the balloon is _____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5 L of nitrogen at 25ºC and 742 torr are compressed to 9.8 atm at constant T. What is the new volu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.6 mL of carbon dioxide at  740 torr is expanded at constant temperature to 750 mL. What is the final pressure in kP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7280" y="501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434 #1-4  p. 435 #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yle’s Law (Summariz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a constant temperature, the volume of a fixed mass of gas is inversely proportional to its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is, if volume increases, pressure is reduc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to the sub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cabulary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tmosph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(S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ssure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at sea leve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60.00mmHg = 760.00 torr= 1.0000 atm = 101.33 KPa=14.7 p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value of 750.0-mm Hg atmospheric pressure in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Requir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nalyz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DEMO)The Cartesian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queezed the bottle, what happened to the contents of the eye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position of the eye 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released the bottle, what happened to the contents of the eyedropp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position of the eyedropp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2252" t="0" r="0" b="0"/>
          <a:stretch/>
        </p:blipFill>
        <p:spPr>
          <a:xfrm>
            <a:off x="7524720" y="4005360"/>
            <a:ext cx="11746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6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and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3883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Boyle determined the relationship between P and V in 196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le’s law 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constant temperature the volume of a gas is inversely proportional to the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1"/>
          <a:srcRect l="0" t="7376" r="0" b="5783"/>
          <a:stretch/>
        </p:blipFill>
        <p:spPr>
          <a:xfrm>
            <a:off x="1763640" y="2924280"/>
            <a:ext cx="5351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and Volume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591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Predictions. Establishing a relationsh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essure is increased twice, what would you predict would happen to the volu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7481880" y="4724280"/>
            <a:ext cx="534960" cy="1727280"/>
          </a:xfrm>
          <a:prstGeom prst="upArrow">
            <a:avLst>
              <a:gd name="adj1" fmla="val 50000"/>
              <a:gd name="adj2" fmla="val 80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8244000" y="4724280"/>
            <a:ext cx="534960" cy="1727280"/>
          </a:xfrm>
          <a:prstGeom prst="downArrow">
            <a:avLst>
              <a:gd name="adj1" fmla="val 50000"/>
              <a:gd name="adj2" fmla="val 80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95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pg 432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and Volume Relationship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form for the equation of a straight line that passes through the origin of a graph 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=   m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ubstituting 1/P (1/pressure)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 (volume) for y a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=   k (1/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k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3:12:04Z</dcterms:created>
  <dc:creator>Natalya</dc:creator>
  <dc:description/>
  <dc:language>en-US</dc:language>
  <cp:lastModifiedBy>Natalya</cp:lastModifiedBy>
  <dcterms:modified xsi:type="dcterms:W3CDTF">2011-12-15T21:22:48Z</dcterms:modified>
  <cp:revision>22</cp:revision>
  <dc:subject/>
  <dc:title>Relationship between  pressure and Volume</dc:title>
</cp:coreProperties>
</file>